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332-A8A6-4C57-B736-AD8AFCEA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DDF-C127-485E-815E-ADDEF71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AEE-8C70-4C62-A7A5-2FA93FF4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1F2-6060-4E65-8152-778E4F4C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ECE-212F-41F8-9CE4-581008E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190-B4C2-499B-B097-4C4BCB60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7C4-D17A-4E35-BCE0-B78465B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533-1808-4013-B3DB-A73AD0F8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3E9-B34B-494E-B068-F1EA832C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67A-61D4-4A8F-8276-FDC2279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A91-1050-411B-83B8-4DE9437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46D-6D23-4F51-9B94-D8E8010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FD1C-9742-4CA3-9B48-F2853AF5A4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pulse.com/Movies/Boondock_Saints,_The/gallery/BOONDOCKBH003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llmoviephoto.com/photo/edward_norton_american_history_x_002.htm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lldogbreeds.com/dog/display_photo.jsp?pic=/englishbulldog/large/english_bulldog_36667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icholasacademy.com/usflags/arkansas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nicholasacademy.com/usflags/ohio.gif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nicholasacademy.com/usflags/missouri.gif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rpulse.com/Television/Rob_&amp;_Big/gallery/Rob-Big-tv-07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67652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ryn H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0"/>
            <a:ext cx="9144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subject is socal stud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685800"/>
            <a:ext cx="733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my spare time i hang out  at the YMCA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52480" y="190512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.M.C.A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Boondock-Saints-bh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Edward Norton in American History X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752480"/>
            <a:ext cx="5029200" cy="337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380880"/>
            <a:ext cx="75438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my favorite movies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67080" y="5181480"/>
            <a:ext cx="4657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erican history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6095880"/>
            <a:ext cx="4105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oondock saint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France 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81080" y="838080"/>
            <a:ext cx="5372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place i want to go to is f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4920" y="0"/>
            <a:ext cx="858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vorite type of dogs are bulld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52480" y="0"/>
            <a:ext cx="5419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y favorite number i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24080" y="2438280"/>
            <a:ext cx="2819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8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900520" y="2378160"/>
          <a:ext cx="3342960" cy="2101680"/>
        </p:xfrm>
        <a:graphic>
          <a:graphicData uri="http://schemas.openxmlformats.org/drawingml/2006/table">
            <a:tbl>
              <a:tblPr/>
              <a:tblGrid>
                <a:gridCol w="3342960"/>
              </a:tblGrid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909880" y="2387520"/>
          <a:ext cx="3324240" cy="2102040"/>
        </p:xfrm>
        <a:graphic>
          <a:graphicData uri="http://schemas.openxmlformats.org/drawingml/2006/table">
            <a:tbl>
              <a:tblPr/>
              <a:tblGrid>
                <a:gridCol w="3324240"/>
              </a:tblGrid>
              <a:tr h="23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62120" y="0"/>
            <a:ext cx="7458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y favotite candy is starburst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Foghorn Legho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09480" y="0"/>
            <a:ext cx="7772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loony toons caractor is foghorn leghor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52480" y="0"/>
            <a:ext cx="5324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like to play 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Sunday, April 13, 2008.Copyright James Schammerhorn/Ostatephoto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752480" y="5581800"/>
            <a:ext cx="58294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"/>
                  <a:miter/>
                </a:ln>
                <a:solidFill>
                  <a:srgbClr val="000000"/>
                </a:solidFill>
                <a:latin typeface="Arial Black"/>
              </a:rPr>
              <a:t>i like to watch base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76840" y="2346480"/>
          <a:ext cx="1390320" cy="1525320"/>
        </p:xfrm>
        <a:graphic>
          <a:graphicData uri="http://schemas.openxmlformats.org/drawingml/2006/table">
            <a:tbl>
              <a:tblPr/>
              <a:tblGrid>
                <a:gridCol w="1390320"/>
              </a:tblGrid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481640" y="3871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52480" y="0"/>
            <a:ext cx="5905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DotDot"/>
                  <a:miter/>
                </a:ln>
                <a:solidFill>
                  <a:srgbClr val="000000"/>
                </a:solidFill>
                <a:latin typeface="Arial Black"/>
              </a:rPr>
              <a:t>my favorite board game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DotDot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920" y="1760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95760" y="46630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oklahoma State 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457200"/>
            <a:ext cx="6924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WAS BORN IN OKLAHO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6095880"/>
            <a:ext cx="350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,05,9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3809880"/>
            <a:ext cx="2286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 am 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09680" y="228600"/>
            <a:ext cx="426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ces i've visit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Arkansas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hio 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11840" y="1600200"/>
            <a:ext cx="35114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Missouri Fl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3809880"/>
            <a:ext cx="3657600" cy="21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162920" y="39625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hi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57600" y="5943600"/>
            <a:ext cx="1676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380880"/>
            <a:ext cx="5267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vorite color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79680" y="210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77880" y="2747880"/>
          <a:ext cx="5987880" cy="517680"/>
        </p:xfrm>
        <a:graphic>
          <a:graphicData uri="http://schemas.openxmlformats.org/drawingml/2006/table">
            <a:tbl>
              <a:tblPr/>
              <a:tblGrid>
                <a:gridCol w="598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87600" y="2757600"/>
          <a:ext cx="3136680" cy="2133360"/>
        </p:xfrm>
        <a:graphic>
          <a:graphicData uri="http://schemas.openxmlformats.org/drawingml/2006/table">
            <a:tbl>
              <a:tblPr/>
              <a:tblGrid>
                <a:gridCol w="3136680"/>
              </a:tblGrid>
              <a:tr h="21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The Fighting Tigers LS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209680" y="533520"/>
            <a:ext cx="4686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vorite college football team</a:t>
            </a: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76720" y="4724280"/>
            <a:ext cx="2361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LSU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0" y="0"/>
            <a:ext cx="9144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sysDot"/>
                  <a:miter/>
                </a:ln>
                <a:solidFill>
                  <a:srgbClr val="000000"/>
                </a:solidFill>
                <a:latin typeface="Arial Black"/>
              </a:rPr>
              <a:t>my favorite sport is foot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sysDot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Troy Polamalu Pittsburgh Steelers - Backpedaling - 8x10 Autographed Photograp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371600" y="0"/>
            <a:ext cx="6562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football player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380880"/>
            <a:ext cx="7619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y favorite class is computers with coach quillin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Rob-Big-tv-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280" y="152280"/>
            <a:ext cx="5105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tv show is rob and bi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2:36Z</dcterms:created>
  <dc:creator>JH Student</dc:creator>
  <dc:description/>
  <dc:language>en-US</dc:language>
  <cp:lastModifiedBy>JH Student</cp:lastModifiedBy>
  <dcterms:modified xsi:type="dcterms:W3CDTF">2009-09-08T18:19:01Z</dcterms:modified>
  <cp:revision>11</cp:revision>
  <dc:subject/>
  <dc:title>Slide 1</dc:title>
</cp:coreProperties>
</file>